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fastcar.wav" ContentType="audio/x-wav"/>
  <Override PartName="/ppt/media/highchime.wav" ContentType="audio/x-wav"/>
  <Override PartName="/ppt/media/jetflyby.wav" ContentType="audio/x-wav"/>
  <Override PartName="/ppt/media/jetflyby2.wav" ContentType="audio/x-wav"/>
  <Override PartName="/ppt/media/bserie06.wav" ContentType="audio/x-wav"/>
  <Override PartName="/ppt/media/zapbig0g.wav" ContentType="audio/x-wav"/>
  <Override PartName="/ppt/media/zipdn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112-871A-497C-B03E-44B53B64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D65-2590-4FE8-A2CD-417A554C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8C1-CD5F-46DA-8B22-91B34EA9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359-5038-43CD-9DED-9CFCF356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694-F0DE-4548-98F8-43905BBC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AB0-3317-4DBC-BDC8-58B374CF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970-A8CA-4EA0-9D4E-CF3E37FC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5E0-3F23-4A5F-89DE-F876EC61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C6B-B762-4ABB-A658-89769D79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3D5-6512-4D8F-9BBF-B523750D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EBB-1720-4130-AC9D-528C0F2B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8C5-B550-4CDF-AAE4-797C14F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1110-4A51-4B82-B3E9-BFFCDFB2B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caralarmoff.wav"/><Relationship Id="rId5" Type="http://schemas.openxmlformats.org/officeDocument/2006/relationships/audio" Target="../media/fastcar.wav"/><Relationship Id="rId6" Type="http://schemas.openxmlformats.org/officeDocument/2006/relationships/audio" Target="../media/caralarmoff.wav"/><Relationship Id="rId7" Type="http://schemas.openxmlformats.org/officeDocument/2006/relationships/audio" Target="../media/highchime.wav"/><Relationship Id="rId8" Type="http://schemas.openxmlformats.org/officeDocument/2006/relationships/audio" Target="../media/jetflyby.wav"/><Relationship Id="rId9" Type="http://schemas.openxmlformats.org/officeDocument/2006/relationships/audio" Target="../media/jetflyby.wav"/><Relationship Id="rId10" Type="http://schemas.openxmlformats.org/officeDocument/2006/relationships/audio" Target="../media/jetflyby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.wav"/><Relationship Id="rId14" Type="http://schemas.openxmlformats.org/officeDocument/2006/relationships/audio" Target="../media/jetflyby.wav"/><Relationship Id="rId15" Type="http://schemas.openxmlformats.org/officeDocument/2006/relationships/audio" Target="../media/zapbig0g.wav"/><Relationship Id="rId16" Type="http://schemas.openxmlformats.org/officeDocument/2006/relationships/audio" Target="../media/fastcar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caralarmoff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aralarmoff.wav"/><Relationship Id="rId6" Type="http://schemas.openxmlformats.org/officeDocument/2006/relationships/audio" Target="../media/zapbig0g.wav"/><Relationship Id="rId7" Type="http://schemas.openxmlformats.org/officeDocument/2006/relationships/audio" Target="../media/fastcar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zipdn10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aralarmoff.wav"/><Relationship Id="rId6" Type="http://schemas.openxmlformats.org/officeDocument/2006/relationships/audio" Target="../media/zapbig0g.wav"/><Relationship Id="rId7" Type="http://schemas.openxmlformats.org/officeDocument/2006/relationships/audio" Target="../media/fastcar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aralarmoff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aralarmoff.wav"/><Relationship Id="rId6" Type="http://schemas.openxmlformats.org/officeDocument/2006/relationships/audio" Target="../media/zapbig0g.wav"/><Relationship Id="rId7" Type="http://schemas.openxmlformats.org/officeDocument/2006/relationships/audio" Target="../media/fastcar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aralarmoff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Percent of Increase or Decrea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6120" y="15922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Perce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20960" y="15066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06960" y="132876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mou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54480" y="1855800"/>
            <a:ext cx="35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84640" y="18730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452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pulation of a town went from 10,000 to  12,000. Find the percent of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00480" y="132084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89520" y="1328760"/>
            <a:ext cx="6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6720" y="1322280"/>
            <a:ext cx="4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74760" y="3675240"/>
                <a:ext cx="41547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432480" y="3624120"/>
                <a:ext cx="2124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4352760" y="1895400"/>
            <a:ext cx="4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0600" y="1874880"/>
            <a:ext cx="4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43080" y="4324320"/>
                <a:ext cx="1846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916680" y="4330800"/>
            <a:ext cx="15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765840" y="4346640"/>
                <a:ext cx="1846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53960" y="5045040"/>
                <a:ext cx="169092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133720" y="5076720"/>
                <a:ext cx="144936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785960" y="5094360"/>
            <a:ext cx="18720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03360" y="5116680"/>
            <a:ext cx="18720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613320" y="5506920"/>
                <a:ext cx="1611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289480" y="553248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eorgia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0 2.19653E-006 L -0.40486 0.35699 E">
                                      <p:cBhvr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animMotion origin="layout" path="M -2.22222E-006 -3.87283E-006 L -0.53975 0.35723 E">
                                      <p:cBhvr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.wav"/>
                                        </p:tgtEl>
                                      </p:cMediaNode>
                                    </p:audio>
                                    <p:animMotion origin="layout" path="M -2.22222E-006 9.82659E-007 L -0.53802 0.35931 E">
                                      <p:cBhvr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.wav"/>
                                        </p:tgtEl>
                                      </p:cMediaNode>
                                    </p:audio>
                                    <p:animMotion origin="layout" path="M -4.16667E-006 2.77457E-006 L -0.40954 0.37202 E">
                                      <p:cBhvr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.wav"/>
                                        </p:tgtEl>
                                      </p:cMediaNode>
                                    </p:audio>
                                    <p:animMotion origin="layout" path="M -3.88889E-006 -1.44509E-006 L -0.53802 0.37642 E">
                                      <p:cBhvr>
                                        <p:cTn id="8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Percent of Increase or Decrea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6120" y="15922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Perce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20960" y="15066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06960" y="132876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mou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54480" y="1855800"/>
            <a:ext cx="35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84640" y="18730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27952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cost of gasoline for the Lopez family car last year was $1,000. This year, the family bought a new car and the cost is $950. Find the percent of chan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14760" y="3776760"/>
                <a:ext cx="30463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176880" y="3757680"/>
                <a:ext cx="19386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170160" y="4425840"/>
                <a:ext cx="1476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945480" y="4417920"/>
            <a:ext cx="142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935760" y="4448160"/>
                <a:ext cx="1478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00120" y="5146560"/>
                <a:ext cx="136836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119320" y="5178600"/>
                <a:ext cx="1449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379520" y="5238720"/>
            <a:ext cx="449280" cy="126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738600" y="5608800"/>
                <a:ext cx="13302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275440" y="5634000"/>
            <a:ext cx="23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eorgia"/>
              </a:rPr>
              <a:t>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3680" y="386244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840" y="449280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Percent of Increase or Decrea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6120" y="15922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Perce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20960" y="15066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06960" y="132876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mou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54480" y="1855800"/>
            <a:ext cx="35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84640" y="18730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7952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375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 number changed from 12 to 15. Find the percent of chang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290760" y="3822840"/>
                <a:ext cx="189252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43760" y="3743280"/>
                <a:ext cx="15681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538440" y="4494240"/>
                <a:ext cx="73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945480" y="44179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130880" y="4502160"/>
                <a:ext cx="738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22320" y="5207040"/>
                <a:ext cx="72396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324160" y="5197320"/>
                <a:ext cx="112716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63680" y="386244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7840" y="449280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66720" y="5297400"/>
                <a:ext cx="7635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71760" y="5986440"/>
                <a:ext cx="7650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2360" y="6004080"/>
                <a:ext cx="44280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94000" y="5219640"/>
                <a:ext cx="140832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730680" y="6005520"/>
                <a:ext cx="9270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714920" y="5651640"/>
                <a:ext cx="1612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291360" y="5676840"/>
            <a:ext cx="23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eorgia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Percent of Increase or Decreas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6120" y="15922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Perce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20960" y="15066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06960" y="132876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mount of 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4480" y="1855800"/>
            <a:ext cx="35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84640" y="1873080"/>
            <a:ext cx="36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7952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375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 number changed from 125 to 100. Find the percent of chang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68560" y="3822840"/>
                <a:ext cx="25383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959440" y="3743280"/>
                <a:ext cx="19368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376440" y="4471920"/>
                <a:ext cx="1062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6945480" y="44179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69240" y="4479840"/>
                <a:ext cx="10620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49360" y="5202360"/>
                <a:ext cx="10047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84360" y="5183280"/>
                <a:ext cx="112716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63680" y="386244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A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449280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O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422360" y="5264280"/>
                <a:ext cx="11415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27040" y="5952960"/>
                <a:ext cx="114300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41640" y="5986440"/>
                <a:ext cx="4032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83000" y="5191200"/>
                <a:ext cx="140796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19680" y="5977080"/>
                <a:ext cx="9270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903920" y="5622840"/>
                <a:ext cx="1612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480000" y="564840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Georgia"/>
              </a:rPr>
              <a:t>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3795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63, 10 – 10 #1-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9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3-13T14:12:45Z</dcterms:modified>
  <cp:revision>104</cp:revision>
  <dc:subject/>
  <dc:title>Slide 1</dc:title>
</cp:coreProperties>
</file>